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96C-E2F6-4FCA-9BE6-A6544682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860-6D62-45B6-8512-6E9F8800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D6435-281D-4920-9B51-12E9A94A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29349-E617-4F40-B304-FB97D7AE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2AC3C-DFCC-4187-B454-35286A37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5E07B-BFB7-40C6-95CE-F5D4A7EF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2E2B4-5B2E-4831-B39B-FB8E620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42FBF-4813-4D04-AD64-78F454A5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3FB34-0E64-49DF-820B-E2148E26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D938E-11C8-4682-9E87-E46299FC1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B3240-E778-4BDE-A6E8-D45AFB2B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BC4E8-51C0-4AF7-AC19-9A436FD6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CC6-280A-4ACE-8EB4-A32EADD4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BAF66-8D48-4B3C-87FB-8A846267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DB74D-F813-4C8D-B633-171888A4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FF0C3-DBC7-497D-BCA6-7296C876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BCCC6-E183-4B47-99AF-29978DD8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33059-3999-40F6-A5AC-DC9751FE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01129-8B83-438E-A92D-24B9C34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B8190-7E09-4BB2-9825-32CF7845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9810C-99C9-483D-A7F8-B520651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2B9A34-4AE4-4738-9F50-55D663CD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8D88E-29CD-4F0D-89DF-F7476C08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AE3-12D9-4AFB-8F29-3CAE24C2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2606D-F912-4939-A9A3-C86464EA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D0868-1711-4DFF-858E-C3C3701A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5497F-4619-4133-99B0-1ECADB78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B59CF-5B72-440A-A698-7C3C2A81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668A8-B27F-4B70-8725-D3110329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3805A-AFB3-4F99-B2D5-6FBC68AA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E8BCE-C662-47E3-B55E-795CD9D7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449A7-59C8-4C02-81CD-8CD4E85F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F9817-FB62-4D09-9B4D-52051C79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1222E-F618-4C53-8688-F224BA72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F61D-3650-4309-BAA1-B7BCA658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8D8BE-FD0D-4A25-9EDF-57B25C2D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E2A8A-2967-45F5-9D58-A3BBF430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DA97D-848B-4961-B1F1-4E19B7B0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1EE03-2586-48FD-8B41-79E3B199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AF6DA-1A8A-43C4-9A84-BA5D805F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7116D-9306-42E6-8989-620FB169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99B8B9-C6A0-43F3-B178-ADE2E53F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2E151-EF00-4E27-ACE5-76CC8E89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692DFB-F47C-4C9E-B443-2AEACB70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D4D63-4B5E-480B-B688-5DD84416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0C33-CE5A-4488-9378-CD151D11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2B79F-1CC2-4B7E-BDE8-020FF9E8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AD0BB-36EE-4B67-B05E-3D9AFFB4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AEC447-D4C7-46D3-8B0F-70190E4C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309C8-25FA-4F96-A444-34ECF07B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05F2DD-3AB8-47EC-BD48-C78D9DB2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56356-E686-43CD-AA79-A955B598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A3EB0-879E-4437-8B63-951997CE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2BECF-399A-4FFC-BC1C-CCAE54A1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9F5C5-D765-4F36-B498-FC6D4EBA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05002-2091-417F-84D0-BD19E783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92A6-FC5A-4FE8-9C9D-6329A042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793DA-809B-4C4F-B9EE-06EACF30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1E0F0-B9A7-4B0A-BC80-B451F821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36358-CE20-4FA1-9CD8-B528EBB4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7D0A5-7EBC-4BD5-A55E-422D3BC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D0435-600B-4691-B1C9-B134BB2B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31EA5-92D1-4B12-8641-9C28C0CB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AEA17-9583-4B0B-B6FE-860CDDB0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22592-9EB4-4D93-9012-5FAFA2DB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B38DD-26B0-4FA5-974C-491F913F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ECB12B-EB13-4835-9FBD-5720248E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577D-5812-406E-A4BC-6587E6F2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CD592-777D-432F-BA51-CA2AAE7E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2E68B-95F8-4BDE-B290-B92FB46B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3BE43-B417-448C-B1E9-EB58AA8F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7CD9E7-3708-4999-8F9D-B3C1CCC2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254FD-C198-4452-BF23-AA35F43F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6E300E-DCFB-497A-BA46-EE92E503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36452-D639-45CB-880C-6BB1B9D2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1245E-74FD-4527-A291-4FF30B3F3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0EE33-6F7F-40FD-B44C-0FEFFA84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5240F0-C9B1-4144-9752-525F4FB8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0346-A5DE-4750-8517-C27D2D92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61C3D-6FF9-412B-AECF-A64F2CE5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9471A-1ADC-4DE4-AEED-4A350594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9A0E4C-7650-4495-A4BD-E3F24C7C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8FFF5-9DF6-4C9E-8DA4-A56500EB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B7591-7512-43BA-837D-BCD9D1AD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C5F5D-5E0E-44B6-ABD6-6FB3E4CB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FD820-6519-470C-A347-B7FA61B7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25EB4-F1C2-430B-9664-E0C666D7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CA98B-1EF2-4E9E-9C10-E97718AD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CC3D5-3A67-4E24-9F24-65326BCD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D2F0E-146E-4E26-8AA6-6604A250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860F3C-8234-4FC0-8524-2135ACB4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38F289-36FC-4AE3-A1D7-19DC5E01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07B55-91E3-4938-AA9D-07333470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1E03E-A599-4AED-A8F3-0C4CC434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4E9193-582D-47F5-AF4A-9E82B6BE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066C5-B5F1-4B9A-BAE3-65579247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E6E5BC-C943-4EFC-B713-42DB58AA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019C3-FC13-4DB8-8EBE-30C305C1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3B1C24-D985-4CE8-88EA-B02C421E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5F911-6F47-4A05-A000-8C750682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B0C0-1A9D-4F3B-A18C-1D53083C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995CD-8AC5-4AE1-BC64-C337CE44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8DD82-2808-40AA-83F6-216B0C05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D4AA9-ABF8-4476-AECB-104FA45A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11D016-348E-459C-B2B7-3BABC920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8AD2F5-D2EA-41CA-B706-6702B85D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ED4AA6-7039-4E86-9090-ABFD7C19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076E0-5991-4306-817D-765FC6AF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47F29-872B-42D3-B813-F7547112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48BFB1-BBDD-4192-A540-27152178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F1697-8D50-4C02-8451-EDC218A2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55A-9BE6-4562-875D-2D26A6E6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76F4-8D4B-458B-BEE0-B6FCC4FB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EF00D8-9782-4E7D-9103-16EFB8A0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8B03A-2E41-49E4-9D81-9E80C86B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17BF8-F8D1-4318-A4B7-4803C992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3CC253-B052-46C7-8F4B-DCD1C8D9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428D9-B62B-4B4D-807B-EBA44CA5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69941B-77DF-4723-B08C-BB125A0E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DAD75E-409A-4F1E-B46D-35962A61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8127D-AAC0-4105-B731-51F78909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063250-F0E3-4D62-9DDB-2B602255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B7030-96AC-4D67-A86D-E648FC8C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FD49-B0D8-4649-8C42-015EAE84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30C4AD-40D8-4848-876A-06FE045A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C84A84-3F70-49A3-BBB6-FB669450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96F697-FD29-46C7-B635-20B1167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479B3-2642-4296-A9FB-2BB39F97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F64A45-3CAC-4CCE-B3CC-247B3290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99C33A-4E69-428D-90A8-5AB75D3B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3B11CB-7093-495B-9DF7-B85290DB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7737ED-1613-4CF2-8530-777D5EC2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0D45E-F093-4729-97A2-A31DB3D3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08BCAD-D6E3-43DC-8BCF-29D36626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1CA8-2E29-461B-8000-4D3F9CB5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C93D03-DE40-41C8-82B3-D2B68320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44B036-87B8-46E4-B45F-A2C3A79A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BC2A84-5CA7-4D1A-BDF6-2B105559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B54BB7-D593-4DD1-A1B8-4BC93240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2F4511-186C-446F-BF5A-33E495F6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C5DBA8-D93C-436D-B736-74221583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57720-AB76-4D7D-814B-6D45DF72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7740E1-8A07-4BCA-AB38-B72C8B6E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5EA04C-E2DC-47D5-9D03-C0F1992A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16C011-6C52-485A-8484-16C14C1A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7537-1252-4CAD-9E64-89251304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D4C79-C519-4633-AB96-60EDC47F5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029CEE-D331-4952-8DEC-0C29F6F9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316992-1EEB-4DAF-9E67-EFA92C88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9C3885-3739-489D-900C-E18083A6D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4DBC08-D2E6-4BDA-95C0-652310F7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A8DE5-AC29-4C5B-AE2B-A6EB12A5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7DB7C-5C8F-4F58-8820-C39DB80D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6F98B4-61AB-49DB-9878-2F462C5A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4BECAC-6065-40ED-8007-441415D4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EA92E6-0C1C-40AD-B110-2DD28C6E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B3DF-34C9-4FF0-8271-E8FFEC8F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E33FE-ACE2-43B9-A6E7-6F8ABF51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6AE30-DC07-45A9-8615-FD549906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EF4C1-8433-4B77-B5BE-6791803B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D03605-8C23-43BB-B55C-3151CCED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9F43EC-94FD-4652-8031-168066CA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59235C-D650-4C4C-BE29-6B38DCFC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3056F6-BF35-4B7E-9258-804F6997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2E0073-9958-4120-AABA-EBDA7FEB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95FD2-3103-4CDE-8F47-C35996D1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388F5F-DE72-4EC5-9819-DD5687DA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67D8D-83D4-4147-8A9C-CA5037D3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2EBCBA-C9B3-4336-9204-ABE29DA8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E41B34-73D4-47E6-BF8C-46962891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1B9AFD-CA31-438B-B4D6-95D1848C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327AC-7651-453F-9732-E7FE1B11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A098-C1DC-4E04-AA8D-61A69EF0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244E-D3B0-4D50-BF8E-68481BE1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F13CD-E46C-46B4-A841-06DFE517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F13-844C-4F37-A196-CAB5E941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91541-89FF-4395-B350-5AF43E86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0B58-4AD8-42D9-9E90-FEE01278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55052-C025-4B42-8596-CC99063F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53503-B925-44EF-9F32-D13DD7E8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C593-125B-4DFA-9A95-94CE747B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AA7C-AD40-461E-84E8-DA063717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D8AE-23DB-4EF3-8141-0E9C2B88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96BD5-428B-444A-BC7E-6E7B73E4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A3C17-D8E2-4547-A942-E870BAE7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A64A-59A4-456B-88C8-4F6965D0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6F8-9950-4302-82BB-79574F73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FC089-13CE-4F1B-A96B-6E304896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E3D95-0D98-4761-B09F-F12883ED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91F9-7493-49D6-8E01-3E10F256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F4708-A22E-4DBF-AB0F-2C8A9A93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C8D8D-9E6A-43CC-80A7-58196794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7C051-1237-4444-A419-E25DD4E0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5EA2D-EEC5-4E43-9558-333B306C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18FA-D8D9-41DA-8682-F4A20356B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0342-52E1-4062-958B-77C1CEA6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F06A6-A50F-44D9-B1E4-2F8DA43F2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F96C-0D7C-4F90-80DB-FAC530E0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A27A5-6472-4CE2-9FDD-35BD5EFC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ED0E1-4DB6-4159-8C67-DCCB22F7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182D8-CE43-4498-85C2-FA83E0FD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33336-07E4-4CF9-89A7-5271590F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9B241-1560-44EF-AB7B-87F7D920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E6D66-67B8-4EBA-A97C-CF93097D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15163-3F2F-40A3-866E-AEAB5BE0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32343-6D7E-4C48-BD67-59D165F1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D5BAC-D879-4A5B-9315-CCABF2CE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ACD26-2733-446B-8F8C-6E246387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DD3-878A-4E6D-9731-7B9026CF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904EF-1B20-4242-962D-C4317F91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80394-A2BB-44A8-A6FD-25ED7E5CC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C7D50-F939-454C-BE90-1FF2E9AF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33C4A-AB67-4A08-91D1-E2E62F6B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CE146-B5E2-40A5-AD7E-7E3F2F04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13ACC-61C6-4B2E-AE0B-FECFD374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18856-B096-476C-A0C7-B634B674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28BA7-5A72-4BF4-9819-2CCAF9B9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4134D-DF41-4F27-9F06-CC4ABB20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143EE-7851-4B95-A64A-D9C41E8C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038-755C-4295-BD79-EDC605A6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9C299-CF9E-41A8-80EB-11865448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FF16A-C2EC-49D8-9335-69758950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C1A42-6260-4A47-8513-C4E9DD04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9E577-18A2-484E-997C-DC7A989A4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B4979-D5F7-4591-9795-361304CC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61361-624F-4067-9FA3-7E22E8E0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7EF81-BB24-49BB-AC15-EF20A564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B0F3C-521E-4CF2-B144-D84575B4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55EF4-D671-4328-A0A3-AAEF5CD9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7727-A489-45A6-ADCF-89EA17E9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6B8A-BF22-45B6-B006-160F5D48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CBCBF-726B-47E5-972C-1C29A1D1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91843-48B7-4B67-83DA-51F9A5BB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82F23-8D8E-43CE-AEF2-58693E5B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735BD-7BF8-4D69-933E-2382344B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862E7-D845-4695-866B-797741A8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2D5E5-C58D-45A9-8C96-F1028FCCC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A1C3F-D236-4906-B914-4E177D24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A798B-AF58-4D3A-B7AB-F2483E6C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071E6-15C4-461E-8F55-17D88A76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8BBEF-8324-44D0-9DB2-A9CB327E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620-E4B7-476E-A661-1E7F45FC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F055D-BCD3-41B8-BDBC-5AFFB596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F231F-C21D-4C15-B7BE-06259A4F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C43EF-7A58-4167-A70E-C472C113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9CE99-8CD8-44AD-BE83-E9F47D8D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78E44-029C-4F7B-8C43-0C3344CE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04D20-E3D8-40CF-A5E6-78F1A0C5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6FAC2-C2C2-4A4D-8E8A-4BE5C974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C1385-C323-4270-9150-10F0A64B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3CE51-5524-4570-A161-091AD622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C832F-2305-441C-A31F-7921C55E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E078-B3AC-49F6-9983-CE51585C94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9876-B5B9-4B57-9A13-B7F6D996ED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98F5-F77F-4B9F-B88F-53EBF46AB0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0DFE-B7C3-43FC-B5E6-4A5F2ADBAD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DE29-98A4-439C-B221-42151EC0AE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62ED-D80A-4131-B3B1-719654154A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52AE-4865-4E50-837D-65F8F94EFE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FF2C-E2E1-453C-BE54-BAD6001845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5CDA-0547-4031-952C-E3EB7FC86A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741E-9698-40C4-84E3-062A7AEE6C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FBB1-BA57-4A95-B08A-1BEFF7A152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E22-1B03-4912-BCA1-CE4B20BC59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DFF9-2EE8-4649-85B9-5B808AF19F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3423-CB2D-4AFD-9598-D2CA38B56B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222D-A125-4EA5-B381-CC0EA4795A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683E-2AD4-45E4-A737-4F8C12F2C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52B1-944E-47C4-8E41-3D8CFA0EDC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D335-2773-4870-882C-C496516345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1182-5A63-4ABA-A9DF-F68B5CA979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8A5F-285C-4502-A256-391528F520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CB5A-85EF-4C4D-8EA3-528D4C8FAC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8305-7D29-413B-91B4-993F3BE359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D16F-06F1-45B0-ACA4-F2B71FE993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9A74-1DFF-4C43-ABD7-7EF2479F71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B3104-5A47-41CB-9FD9-E8497D685A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84FE-8C3D-4ABB-A970-97A58C2D0A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71E2-5748-4F86-88DA-DA84AA3426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D00E-1ADD-40FC-B591-83C6096113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46E8-DC5D-4A77-916A-882482AA87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A962-55D7-4BDF-AD65-DCA10A7008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F8E5-6974-4C44-A6C4-89E40985FB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D3F0-1419-4E1A-9B8D-5CDC9E9557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57FB-14CB-4DB6-961B-18F231BC71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1244-740C-4F29-B02D-53A57B9A8E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11BF-E048-4D8C-96FA-8D34A43D4C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4632-84B9-437A-90E2-CF37AB81B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36B8-285E-4E4B-92BC-5B3905B991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7F8B-C330-4D5B-96C6-7D0A762B57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B987-28EF-411D-89BD-4B0ED0D43B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3E94-E3A8-425C-997C-810289BAC2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109960" y="2743200"/>
            <a:ext cx="4924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33200" y="1752480"/>
            <a:ext cx="8877600" cy="33530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476360" y="4710240"/>
            <a:ext cx="1008000" cy="2728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708360" y="4714920"/>
            <a:ext cx="1224000" cy="2728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435640" y="4714920"/>
            <a:ext cx="1008000" cy="2728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24720" y="4714920"/>
            <a:ext cx="1008000" cy="27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185760" y="1295280"/>
            <a:ext cx="8772480" cy="4267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2050920" y="260820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070000" y="231444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3419640" y="2617920"/>
            <a:ext cx="502920" cy="2444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3448080" y="2295360"/>
            <a:ext cx="503280" cy="2448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4816440" y="260820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7"/>
          <a:stretch/>
        </p:blipFill>
        <p:spPr>
          <a:xfrm>
            <a:off x="4859280" y="231444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8"/>
          <a:stretch/>
        </p:blipFill>
        <p:spPr>
          <a:xfrm>
            <a:off x="6732720" y="259884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9"/>
          <a:stretch/>
        </p:blipFill>
        <p:spPr>
          <a:xfrm>
            <a:off x="6732720" y="232092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0"/>
          <a:stretch/>
        </p:blipFill>
        <p:spPr>
          <a:xfrm>
            <a:off x="2050920" y="290988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1"/>
          <a:stretch/>
        </p:blipFill>
        <p:spPr>
          <a:xfrm>
            <a:off x="3438360" y="290052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2"/>
          <a:stretch/>
        </p:blipFill>
        <p:spPr>
          <a:xfrm>
            <a:off x="4859280" y="290520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3"/>
          <a:stretch/>
        </p:blipFill>
        <p:spPr>
          <a:xfrm>
            <a:off x="6742080" y="291456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4"/>
          <a:stretch/>
        </p:blipFill>
        <p:spPr>
          <a:xfrm>
            <a:off x="1979640" y="349092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5"/>
          <a:stretch/>
        </p:blipFill>
        <p:spPr>
          <a:xfrm>
            <a:off x="1979640" y="320364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6"/>
          <a:stretch/>
        </p:blipFill>
        <p:spPr>
          <a:xfrm>
            <a:off x="4417920" y="335772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7"/>
          <a:stretch/>
        </p:blipFill>
        <p:spPr>
          <a:xfrm>
            <a:off x="7956720" y="3348000"/>
            <a:ext cx="502920" cy="244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8"/>
          <a:stretch/>
        </p:blipFill>
        <p:spPr>
          <a:xfrm>
            <a:off x="1898640" y="465300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9"/>
          <a:stretch/>
        </p:blipFill>
        <p:spPr>
          <a:xfrm>
            <a:off x="4427640" y="465300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0"/>
          <a:stretch/>
        </p:blipFill>
        <p:spPr>
          <a:xfrm>
            <a:off x="7093080" y="465300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1"/>
          <a:stretch/>
        </p:blipFill>
        <p:spPr>
          <a:xfrm>
            <a:off x="1763640" y="530064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2"/>
          <a:stretch/>
        </p:blipFill>
        <p:spPr>
          <a:xfrm>
            <a:off x="1835280" y="501336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3"/>
          <a:stretch/>
        </p:blipFill>
        <p:spPr>
          <a:xfrm>
            <a:off x="4284720" y="5157720"/>
            <a:ext cx="503280" cy="2444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4"/>
          <a:stretch/>
        </p:blipFill>
        <p:spPr>
          <a:xfrm>
            <a:off x="7686720" y="5157720"/>
            <a:ext cx="50328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8373" descr=""/>
          <p:cNvPicPr/>
          <p:nvPr/>
        </p:nvPicPr>
        <p:blipFill>
          <a:blip r:embed="rId1"/>
          <a:stretch/>
        </p:blipFill>
        <p:spPr>
          <a:xfrm>
            <a:off x="457200" y="1552680"/>
            <a:ext cx="8229600" cy="3752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2230560" y="2565360"/>
            <a:ext cx="387360" cy="2732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2814480" y="3462480"/>
            <a:ext cx="387360" cy="2728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3995640" y="2565360"/>
            <a:ext cx="387360" cy="2732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4759200" y="3457440"/>
            <a:ext cx="387360" cy="2732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6127920" y="3457440"/>
            <a:ext cx="387360" cy="2732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7"/>
          <a:stretch/>
        </p:blipFill>
        <p:spPr>
          <a:xfrm>
            <a:off x="7299360" y="2565360"/>
            <a:ext cx="387360" cy="2732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8"/>
          <a:stretch/>
        </p:blipFill>
        <p:spPr>
          <a:xfrm>
            <a:off x="1979640" y="4302000"/>
            <a:ext cx="387360" cy="2732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9"/>
          <a:stretch/>
        </p:blipFill>
        <p:spPr>
          <a:xfrm>
            <a:off x="5003640" y="4302000"/>
            <a:ext cx="387360" cy="2732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10"/>
          <a:stretch/>
        </p:blipFill>
        <p:spPr>
          <a:xfrm>
            <a:off x="7956720" y="4302000"/>
            <a:ext cx="387360" cy="2732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11"/>
          <a:stretch/>
        </p:blipFill>
        <p:spPr>
          <a:xfrm>
            <a:off x="1763640" y="5003640"/>
            <a:ext cx="576360" cy="2732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12"/>
          <a:stretch/>
        </p:blipFill>
        <p:spPr>
          <a:xfrm>
            <a:off x="4697280" y="5013360"/>
            <a:ext cx="576360" cy="272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13"/>
          <a:stretch/>
        </p:blipFill>
        <p:spPr>
          <a:xfrm>
            <a:off x="7740720" y="5003640"/>
            <a:ext cx="576360" cy="2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42:0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